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0582E2-A557-49DC-9318-2011280318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DD7071-EAB0-41C5-8874-D026BF34F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578AB4-4A65-4B1D-9ED7-90B1F88818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FE342E-B5A4-4338-99EF-21776205AA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87BFD8-BBEF-4843-A1A3-76A228974E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4A3AF8-DBFE-4C5B-AC49-D6AE4575E4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E21EFB-4D54-4929-AF75-E6A6FA031F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73C4B2-DE6A-408A-85A0-43175B3F05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88A313-796A-45C9-91BB-09B2B0A064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DDB40D-D8A1-400D-8386-4380D31140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55979A-DBFF-4D3C-9EFF-3DF3023EAB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9E40A1-33ED-4236-94A2-D27A20C04D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2D838B-42AF-4090-AC6F-83080B7D87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209518-8E00-4104-A0BF-5FC3DDE9BA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725079-D578-4F40-AA85-E1AF120EAD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67C2F4-3370-4255-875A-0356014841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6B62C4-E784-4A61-92D1-DC619521EF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96EFD2-61D0-4D5E-A162-EF468EE8FA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FE6F37-2524-45BD-81CB-1C34E8D97E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52BD9C-7A7F-4744-BAB5-9B27692F40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0E2643-ACF7-4F21-8934-574B947C8A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57DB18-9CE3-4A5E-B074-799B01913A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DE9ADD-8D68-4838-BF33-4C5E5EBB8C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C728FB-32D8-42AC-8BDB-F06E196AFB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963080-54F4-49AA-9356-E8EF05B384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3BCB08-7507-4BC0-9A7B-26A80AA31E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2E4E2F-51FF-4F05-A326-C55A078706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30B07D-172F-46BA-A486-2F42E0F8E2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89C23C-3E7E-4801-97EC-66317C7C70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1B2090-1979-4564-A2C5-485CB8E7E0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4FE569-6146-4B02-A203-AC91D06E28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0D1988-13D4-44A4-A194-1E8D133CB9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6036D0-4408-43FB-9061-BD666C495D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5D9D49-2595-4C7C-951C-65F5C36F64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92D782-01C8-444F-9F3D-24B7977675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21A8B7-7706-4C40-A171-5EF509F5FA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F4DD55-50A3-4AD6-A05B-2837A7029E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074FE3-AD3C-48D2-8C3E-A3E00EF787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4BC177-DE55-4759-BB44-80EB0F27FE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C19421-5919-4E5E-A5E8-0ABD18D77C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80005E-5C9A-43A0-B74C-6015DA4D1B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5481-6AD7-4403-BB5E-0A0773073C4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57BB-7173-4475-881C-6584BF36553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703E-9060-481B-A7F3-0C4B1F9C06B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EFD8-44DD-4D4C-B4B6-BE6C4EC4BC7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FCA-328C-4176-A529-E9D61C3ECCD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C141-3295-44AF-9EA8-72A62544907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9734-6E7D-473F-83DA-8832591E535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2C75-F7CD-4387-BCED-32456D25291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2913F927-1612-4E1F-8726-4B3B6986AE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Design%20Ver.%20EX.doc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0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Design Verific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6240" y="82548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88480" y="1643040"/>
            <a:ext cx="7410600" cy="4492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steps for this example are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942840" y="4811760"/>
            <a:ext cx="745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 for inputs A and B is B and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4" descr="s10"/>
          <p:cNvPicPr/>
          <p:nvPr/>
        </p:nvPicPr>
        <p:blipFill>
          <a:blip r:embed="rId1"/>
          <a:stretch/>
        </p:blipFill>
        <p:spPr>
          <a:xfrm>
            <a:off x="1987560" y="2352600"/>
            <a:ext cx="51674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9120" y="823680"/>
            <a:ext cx="78786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: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02880" y="1654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:  symbolic proo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ly involve less work than other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sometimes the only practical way to do a comprehensive verif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 symbolic execu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hard to use, except for algorithmic and substitutio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ofs are manual and error-p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ifficult to use with complex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9964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ecution table is an orderly way to trace program exec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manual check of program 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tarts with initi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variable values is sel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xecution step is exam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change in variable values is ent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behavior is checked against the spec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6652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028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dvantages of execution tables are that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si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reliabl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advantages of execution tables are that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only one case at a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ime-consu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subject to human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6240" y="8334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use an execution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key program variables and enter them at the top of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rincipal program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nd enter the initi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he variable values through each program st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dditional execution-table copies for each cyclic l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6652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 Exerci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9640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</a:t>
            </a:r>
            <a:r>
              <a:rPr b="0" lang="en-US" sz="2200" spc="-1" strike="noStrike" u="sng">
                <a:solidFill>
                  <a:srgbClr val="0a50e1"/>
                </a:solidFill>
                <a:uFillTx/>
                <a:latin typeface="Arial"/>
                <a:hlinkClick r:id="rId1"/>
              </a:rPr>
              <a:t>exerc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use an execution table to verify the correctness of the LogI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a two-cycle scenari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320" indent="-406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ID &amp; !Valid P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320" indent="-406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timeout error &amp; Valid P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nMax =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 up and take 20 minutes to do the verification.  Blank execution tables are in the noteboo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29"/>
          <p:cNvSpPr/>
          <p:nvPr/>
        </p:nvSpPr>
        <p:spPr>
          <a:xfrm>
            <a:off x="4507560" y="5792760"/>
            <a:ext cx="1783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4760" tIns="52200" bIns="522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030" descr=""/>
          <p:cNvPicPr/>
          <p:nvPr/>
        </p:nvPicPr>
        <p:blipFill>
          <a:blip r:embed="rId2"/>
          <a:stretch/>
        </p:blipFill>
        <p:spPr>
          <a:xfrm>
            <a:off x="3772080" y="5527800"/>
            <a:ext cx="6490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3000" y="87120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5"/>
          <p:cNvGraphicFramePr/>
          <p:nvPr/>
        </p:nvGraphicFramePr>
        <p:xfrm>
          <a:off x="479520" y="1631880"/>
          <a:ext cx="8118360" cy="38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31880"/>
                    <a:ext cx="811836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Disc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90640" y="1641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has an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 design does not require ID to be set to !Valid on a new cycle, the implementation could result in an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second cycle, a Valid PW could end the test with ID = Valid, PW = Valid, and Fail = tr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implementation, this design omission could result in an incorrect log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63280" y="871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90520" y="1635120"/>
          <a:ext cx="8496360" cy="40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635120"/>
                    <a:ext cx="84963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63280" y="871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-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8"/>
          <p:cNvGraphicFramePr/>
          <p:nvPr/>
        </p:nvGraphicFramePr>
        <p:xfrm>
          <a:off x="279360" y="1881360"/>
          <a:ext cx="8496360" cy="40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881360"/>
                    <a:ext cx="84963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912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02880" y="16430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cture provides a survey of several design verification topic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s for design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checking and trac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 is required to consistently and effectively use these verification techn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87040" y="83016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 Check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99640" y="1645920"/>
            <a:ext cx="78044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checking involves the following fiv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the program to determine its behavior catego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se categories, identify the cases to chec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he cases to ensure that they cover all possible situ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program behavior for each c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every case has been verified, program behavior has been verifi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ables are similar to execution tables, but more gene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ables examine general program behavior, rather than verifying individual c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ables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ch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8560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ace table procedure is the same as that for the execution table, plus thre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key program variables and enter them at the top of the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rincipal program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dentify symbolic execution possi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fine all of the possible cases and select those to ch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nd enter the initi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he variable values through each program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dditional trace-table copies for each cyclic lo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or multi-cycle loops, group intermediate steps if their results are obvi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852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98280" y="1700280"/>
            <a:ext cx="7413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earSpaces routine clears leading and trailing spaces from an input string and sets the value of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998640" y="5219640"/>
            <a:ext cx="768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example omits the Length = 0 test and clears trailing spaces.  It is in the textbook, Table 12.5 (page 26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3" descr="s23"/>
          <p:cNvPicPr/>
          <p:nvPr/>
        </p:nvPicPr>
        <p:blipFill>
          <a:blip r:embed="rId1"/>
          <a:stretch/>
        </p:blipFill>
        <p:spPr>
          <a:xfrm>
            <a:off x="1019160" y="2585880"/>
            <a:ext cx="772308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6240" y="834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Cas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2960" y="16444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ic execution parameters are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ng length: Length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ing spaces: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space characters: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ling spaces: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sible cas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or N or T = 1 while the others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or N or T &gt; 1 while the others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or N or T = 0 while the other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and N and T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76240" y="834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Cas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98560" y="1654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prehensive test would check all c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ould also check for any limitations on the upper limit values of L, N, and 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trace-table strategy is to pick a specific set of values for each case and then generalize the res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xample for trailing spaces shows the approach with L and N and T &gt;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ling Space Example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747720" y="1558800"/>
            <a:ext cx="7898040" cy="4934160"/>
            <a:chOff x="747720" y="1558800"/>
            <a:chExt cx="7898040" cy="4934160"/>
          </a:xfrm>
        </p:grpSpPr>
        <p:sp>
          <p:nvSpPr>
            <p:cNvPr id="312" name="Rectangle 4"/>
            <p:cNvSpPr/>
            <p:nvPr/>
          </p:nvSpPr>
          <p:spPr>
            <a:xfrm>
              <a:off x="765000" y="1558800"/>
              <a:ext cx="7829640" cy="492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"/>
            <p:cNvSpPr/>
            <p:nvPr/>
          </p:nvSpPr>
          <p:spPr>
            <a:xfrm>
              <a:off x="763560" y="19778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6"/>
            <p:cNvSpPr/>
            <p:nvPr/>
          </p:nvSpPr>
          <p:spPr>
            <a:xfrm>
              <a:off x="763560" y="24350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>
              <a:off x="763560" y="30621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8"/>
            <p:cNvSpPr/>
            <p:nvPr/>
          </p:nvSpPr>
          <p:spPr>
            <a:xfrm>
              <a:off x="763560" y="35589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"/>
            <p:cNvSpPr/>
            <p:nvPr/>
          </p:nvSpPr>
          <p:spPr>
            <a:xfrm>
              <a:off x="763560" y="407340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0"/>
            <p:cNvSpPr/>
            <p:nvPr/>
          </p:nvSpPr>
          <p:spPr>
            <a:xfrm>
              <a:off x="763560" y="55562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1"/>
            <p:cNvSpPr/>
            <p:nvPr/>
          </p:nvSpPr>
          <p:spPr>
            <a:xfrm>
              <a:off x="763560" y="60548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937080" y="1616040"/>
              <a:ext cx="2993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ycle 1: L = 1, N = 2, T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4076280" y="1623960"/>
              <a:ext cx="456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rSpaces(var Input: string; State: in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4"/>
            <p:cNvSpPr/>
            <p:nvPr/>
          </p:nvSpPr>
          <p:spPr>
            <a:xfrm>
              <a:off x="120816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5"/>
            <p:cNvSpPr/>
            <p:nvPr/>
          </p:nvSpPr>
          <p:spPr>
            <a:xfrm flipH="1">
              <a:off x="7881480" y="1969920"/>
              <a:ext cx="1800" cy="448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6"/>
            <p:cNvSpPr/>
            <p:nvPr/>
          </p:nvSpPr>
          <p:spPr>
            <a:xfrm>
              <a:off x="698040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7"/>
            <p:cNvSpPr/>
            <p:nvPr/>
          </p:nvSpPr>
          <p:spPr>
            <a:xfrm>
              <a:off x="608652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8"/>
            <p:cNvSpPr/>
            <p:nvPr/>
          </p:nvSpPr>
          <p:spPr>
            <a:xfrm>
              <a:off x="494352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9"/>
            <p:cNvSpPr/>
            <p:nvPr/>
          </p:nvSpPr>
          <p:spPr>
            <a:xfrm>
              <a:off x="747720" y="20685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"/>
            <p:cNvSpPr/>
            <p:nvPr/>
          </p:nvSpPr>
          <p:spPr>
            <a:xfrm>
              <a:off x="861840" y="258264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1"/>
            <p:cNvSpPr/>
            <p:nvPr/>
          </p:nvSpPr>
          <p:spPr>
            <a:xfrm>
              <a:off x="849240" y="31287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2"/>
            <p:cNvSpPr/>
            <p:nvPr/>
          </p:nvSpPr>
          <p:spPr>
            <a:xfrm>
              <a:off x="836640" y="364320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3"/>
            <p:cNvSpPr/>
            <p:nvPr/>
          </p:nvSpPr>
          <p:spPr>
            <a:xfrm>
              <a:off x="825480" y="41385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4"/>
            <p:cNvSpPr/>
            <p:nvPr/>
          </p:nvSpPr>
          <p:spPr>
            <a:xfrm>
              <a:off x="838080" y="466560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5"/>
            <p:cNvSpPr/>
            <p:nvPr/>
          </p:nvSpPr>
          <p:spPr>
            <a:xfrm>
              <a:off x="831960" y="511632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6"/>
            <p:cNvSpPr/>
            <p:nvPr/>
          </p:nvSpPr>
          <p:spPr>
            <a:xfrm>
              <a:off x="1254960" y="2081160"/>
              <a:ext cx="14968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4894200" y="2074680"/>
              <a:ext cx="12578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6152040" y="2081160"/>
              <a:ext cx="7488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6990120" y="2074680"/>
              <a:ext cx="951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0"/>
            <p:cNvSpPr/>
            <p:nvPr/>
          </p:nvSpPr>
          <p:spPr>
            <a:xfrm>
              <a:off x="7885440" y="2081160"/>
              <a:ext cx="745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1"/>
            <p:cNvSpPr/>
            <p:nvPr/>
          </p:nvSpPr>
          <p:spPr>
            <a:xfrm>
              <a:off x="1215720" y="2500200"/>
              <a:ext cx="2690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:= length(Input)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 :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2"/>
            <p:cNvSpPr/>
            <p:nvPr/>
          </p:nvSpPr>
          <p:spPr>
            <a:xfrm>
              <a:off x="6095160" y="2620800"/>
              <a:ext cx="773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‘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 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3"/>
            <p:cNvSpPr/>
            <p:nvPr/>
          </p:nvSpPr>
          <p:spPr>
            <a:xfrm>
              <a:off x="7238880" y="261468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4"/>
            <p:cNvSpPr/>
            <p:nvPr/>
          </p:nvSpPr>
          <p:spPr>
            <a:xfrm>
              <a:off x="8056440" y="260172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5"/>
            <p:cNvSpPr/>
            <p:nvPr/>
          </p:nvSpPr>
          <p:spPr>
            <a:xfrm>
              <a:off x="1213200" y="3147840"/>
              <a:ext cx="872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6"/>
            <p:cNvSpPr/>
            <p:nvPr/>
          </p:nvSpPr>
          <p:spPr>
            <a:xfrm>
              <a:off x="1200600" y="3643200"/>
              <a:ext cx="2554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Input[Length] = ‘ 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7"/>
            <p:cNvSpPr/>
            <p:nvPr/>
          </p:nvSpPr>
          <p:spPr>
            <a:xfrm>
              <a:off x="1200600" y="4176720"/>
              <a:ext cx="28476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:= Length -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8"/>
            <p:cNvSpPr/>
            <p:nvPr/>
          </p:nvSpPr>
          <p:spPr>
            <a:xfrm>
              <a:off x="1205640" y="4653000"/>
              <a:ext cx="3452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State &lt; 2 State:=State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1214280" y="5122800"/>
              <a:ext cx="1949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se State :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0"/>
            <p:cNvSpPr/>
            <p:nvPr/>
          </p:nvSpPr>
          <p:spPr>
            <a:xfrm>
              <a:off x="1215000" y="5618160"/>
              <a:ext cx="29358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til State=3 or Length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41"/>
            <p:cNvSpPr/>
            <p:nvPr/>
          </p:nvSpPr>
          <p:spPr>
            <a:xfrm>
              <a:off x="763560" y="50673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42"/>
            <p:cNvSpPr/>
            <p:nvPr/>
          </p:nvSpPr>
          <p:spPr>
            <a:xfrm>
              <a:off x="763560" y="45813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85600" y="8348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ling Space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93520" y="1654200"/>
            <a:ext cx="7615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sing a trace table, it is essential to determine precisely what the computer would do for each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example, the value of Input[Length] is indeterminate because the last character of the string is at Length -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def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correcting this defect, the trace table is as shown in the next sl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:  Cycle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812880" y="1549440"/>
            <a:ext cx="78296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"/>
          <p:cNvSpPr/>
          <p:nvPr/>
        </p:nvSpPr>
        <p:spPr>
          <a:xfrm>
            <a:off x="811080" y="19684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811080" y="24256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811080" y="30528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>
            <a:off x="811080" y="35496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811080" y="40640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811080" y="55468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>
            <a:off x="811080" y="6045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984600" y="1606680"/>
            <a:ext cx="299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1: L = 1, N = 2, 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4124160" y="160020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125568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4"/>
          <p:cNvSpPr/>
          <p:nvPr/>
        </p:nvSpPr>
        <p:spPr>
          <a:xfrm flipH="1">
            <a:off x="7929720" y="1960560"/>
            <a:ext cx="1440" cy="44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5"/>
          <p:cNvSpPr/>
          <p:nvPr/>
        </p:nvSpPr>
        <p:spPr>
          <a:xfrm>
            <a:off x="702792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>
            <a:off x="6134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991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9524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9097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"/>
          <p:cNvSpPr/>
          <p:nvPr/>
        </p:nvSpPr>
        <p:spPr>
          <a:xfrm>
            <a:off x="89676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1"/>
          <p:cNvSpPr/>
          <p:nvPr/>
        </p:nvSpPr>
        <p:spPr>
          <a:xfrm>
            <a:off x="88416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87300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8859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8794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130248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49417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7"/>
          <p:cNvSpPr/>
          <p:nvPr/>
        </p:nvSpPr>
        <p:spPr>
          <a:xfrm>
            <a:off x="61995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8"/>
          <p:cNvSpPr/>
          <p:nvPr/>
        </p:nvSpPr>
        <p:spPr>
          <a:xfrm>
            <a:off x="70380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79329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12632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6143040" y="2611440"/>
            <a:ext cx="773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2"/>
          <p:cNvSpPr/>
          <p:nvPr/>
        </p:nvSpPr>
        <p:spPr>
          <a:xfrm>
            <a:off x="7286760" y="2604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3"/>
          <p:cNvSpPr/>
          <p:nvPr/>
        </p:nvSpPr>
        <p:spPr>
          <a:xfrm>
            <a:off x="8104320" y="25923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126072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>
            <a:off x="1248480" y="3633840"/>
            <a:ext cx="2757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6"/>
          <p:cNvSpPr/>
          <p:nvPr/>
        </p:nvSpPr>
        <p:spPr>
          <a:xfrm>
            <a:off x="1248120" y="4167360"/>
            <a:ext cx="2847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7"/>
          <p:cNvSpPr/>
          <p:nvPr/>
        </p:nvSpPr>
        <p:spPr>
          <a:xfrm>
            <a:off x="5203800" y="363996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8"/>
          <p:cNvSpPr/>
          <p:nvPr/>
        </p:nvSpPr>
        <p:spPr>
          <a:xfrm>
            <a:off x="1253520" y="4643280"/>
            <a:ext cx="345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9"/>
          <p:cNvSpPr/>
          <p:nvPr/>
        </p:nvSpPr>
        <p:spPr>
          <a:xfrm>
            <a:off x="1262160" y="5113440"/>
            <a:ext cx="194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0"/>
          <p:cNvSpPr/>
          <p:nvPr/>
        </p:nvSpPr>
        <p:spPr>
          <a:xfrm>
            <a:off x="7272360" y="416232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1"/>
          <p:cNvSpPr/>
          <p:nvPr/>
        </p:nvSpPr>
        <p:spPr>
          <a:xfrm>
            <a:off x="5245200" y="46386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8116920" y="464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12628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5178600" y="562140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811080" y="50576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811080" y="4572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76240" y="56055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:  Cycl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798480" y="1549440"/>
            <a:ext cx="78296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797040" y="196848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797040" y="242568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797040" y="305280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>
            <a:off x="797040" y="354960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797040" y="406404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797040" y="554688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797040" y="604512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970200" y="1606680"/>
            <a:ext cx="299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2: L = 1, N = 2, 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4109760" y="160020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"/>
          <p:cNvSpPr/>
          <p:nvPr/>
        </p:nvSpPr>
        <p:spPr>
          <a:xfrm>
            <a:off x="124128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 flipH="1">
            <a:off x="7915320" y="1960560"/>
            <a:ext cx="1440" cy="44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701352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"/>
          <p:cNvSpPr/>
          <p:nvPr/>
        </p:nvSpPr>
        <p:spPr>
          <a:xfrm>
            <a:off x="61196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7"/>
          <p:cNvSpPr/>
          <p:nvPr/>
        </p:nvSpPr>
        <p:spPr>
          <a:xfrm>
            <a:off x="49766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8120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8953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88272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1"/>
          <p:cNvSpPr/>
          <p:nvPr/>
        </p:nvSpPr>
        <p:spPr>
          <a:xfrm>
            <a:off x="87012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2"/>
          <p:cNvSpPr/>
          <p:nvPr/>
        </p:nvSpPr>
        <p:spPr>
          <a:xfrm>
            <a:off x="85896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8715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8650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128844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49273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61851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70236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79185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12488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6129360" y="261144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7272360" y="26049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3"/>
          <p:cNvSpPr/>
          <p:nvPr/>
        </p:nvSpPr>
        <p:spPr>
          <a:xfrm>
            <a:off x="8089920" y="25923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124668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"/>
          <p:cNvSpPr/>
          <p:nvPr/>
        </p:nvSpPr>
        <p:spPr>
          <a:xfrm>
            <a:off x="1234440" y="3633840"/>
            <a:ext cx="2757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6"/>
          <p:cNvSpPr/>
          <p:nvPr/>
        </p:nvSpPr>
        <p:spPr>
          <a:xfrm>
            <a:off x="1233720" y="4167360"/>
            <a:ext cx="2847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7"/>
          <p:cNvSpPr/>
          <p:nvPr/>
        </p:nvSpPr>
        <p:spPr>
          <a:xfrm>
            <a:off x="5189400" y="363996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8"/>
          <p:cNvSpPr/>
          <p:nvPr/>
        </p:nvSpPr>
        <p:spPr>
          <a:xfrm>
            <a:off x="1239120" y="4643280"/>
            <a:ext cx="345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9"/>
          <p:cNvSpPr/>
          <p:nvPr/>
        </p:nvSpPr>
        <p:spPr>
          <a:xfrm>
            <a:off x="1247760" y="5113440"/>
            <a:ext cx="194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0"/>
          <p:cNvSpPr/>
          <p:nvPr/>
        </p:nvSpPr>
        <p:spPr>
          <a:xfrm>
            <a:off x="7257960" y="4162320"/>
            <a:ext cx="1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1"/>
          <p:cNvSpPr/>
          <p:nvPr/>
        </p:nvSpPr>
        <p:spPr>
          <a:xfrm>
            <a:off x="5230800" y="463860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2"/>
          <p:cNvSpPr/>
          <p:nvPr/>
        </p:nvSpPr>
        <p:spPr>
          <a:xfrm>
            <a:off x="8102520" y="4643280"/>
            <a:ext cx="1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3"/>
          <p:cNvSpPr/>
          <p:nvPr/>
        </p:nvSpPr>
        <p:spPr>
          <a:xfrm>
            <a:off x="12484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4"/>
          <p:cNvSpPr/>
          <p:nvPr/>
        </p:nvSpPr>
        <p:spPr>
          <a:xfrm>
            <a:off x="5164200" y="56214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5"/>
          <p:cNvSpPr/>
          <p:nvPr/>
        </p:nvSpPr>
        <p:spPr>
          <a:xfrm>
            <a:off x="797040" y="505764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6"/>
          <p:cNvSpPr/>
          <p:nvPr/>
        </p:nvSpPr>
        <p:spPr>
          <a:xfrm>
            <a:off x="797040" y="457200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7"/>
          <p:cNvSpPr/>
          <p:nvPr/>
        </p:nvSpPr>
        <p:spPr>
          <a:xfrm>
            <a:off x="6257160" y="313524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8"/>
          <p:cNvSpPr/>
          <p:nvPr/>
        </p:nvSpPr>
        <p:spPr>
          <a:xfrm>
            <a:off x="7358040" y="3149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9"/>
          <p:cNvSpPr/>
          <p:nvPr/>
        </p:nvSpPr>
        <p:spPr>
          <a:xfrm>
            <a:off x="8229600" y="3135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0"/>
          <p:cNvSpPr/>
          <p:nvPr/>
        </p:nvSpPr>
        <p:spPr>
          <a:xfrm>
            <a:off x="8272440" y="512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1"/>
          <p:cNvSpPr/>
          <p:nvPr/>
        </p:nvSpPr>
        <p:spPr>
          <a:xfrm>
            <a:off x="851040" y="562752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300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Design Verificatio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hard to eliminate many design defects just by making process chang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s and a structured review process can improve code-review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s with checklists are also helpful, but not suffici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ecklist item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Is module logic correct?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annot be confirmed by scanning the specification templ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76240" y="844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98560" y="1654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, carefully check the initial conditions to ensure that they are se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y the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, double-check the trace table for errors and o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after completing each case, check behavior for different parameter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the State := 3 step for the trace-table case with T trailing spaces, is shown on the next sl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0920" y="830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:  Cycle 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812880" y="1549440"/>
            <a:ext cx="78296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811080" y="19684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"/>
          <p:cNvSpPr/>
          <p:nvPr/>
        </p:nvSpPr>
        <p:spPr>
          <a:xfrm>
            <a:off x="811080" y="24256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811080" y="30528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811080" y="35496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811080" y="40640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811080" y="55468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>
            <a:off x="811080" y="6045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983520" y="1606680"/>
            <a:ext cx="3021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: L = 1, N = 2, T 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4081320" y="162864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>
            <a:off x="125568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7929720" y="1960560"/>
            <a:ext cx="1440" cy="44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702792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6134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>
            <a:off x="4991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8"/>
          <p:cNvSpPr/>
          <p:nvPr/>
        </p:nvSpPr>
        <p:spPr>
          <a:xfrm>
            <a:off x="79524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9"/>
          <p:cNvSpPr/>
          <p:nvPr/>
        </p:nvSpPr>
        <p:spPr>
          <a:xfrm>
            <a:off x="9097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89676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1"/>
          <p:cNvSpPr/>
          <p:nvPr/>
        </p:nvSpPr>
        <p:spPr>
          <a:xfrm>
            <a:off x="88416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2"/>
          <p:cNvSpPr/>
          <p:nvPr/>
        </p:nvSpPr>
        <p:spPr>
          <a:xfrm>
            <a:off x="87300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3"/>
          <p:cNvSpPr/>
          <p:nvPr/>
        </p:nvSpPr>
        <p:spPr>
          <a:xfrm>
            <a:off x="8859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4"/>
          <p:cNvSpPr/>
          <p:nvPr/>
        </p:nvSpPr>
        <p:spPr>
          <a:xfrm>
            <a:off x="8794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5"/>
          <p:cNvSpPr/>
          <p:nvPr/>
        </p:nvSpPr>
        <p:spPr>
          <a:xfrm>
            <a:off x="130248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6"/>
          <p:cNvSpPr/>
          <p:nvPr/>
        </p:nvSpPr>
        <p:spPr>
          <a:xfrm>
            <a:off x="49417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7"/>
          <p:cNvSpPr/>
          <p:nvPr/>
        </p:nvSpPr>
        <p:spPr>
          <a:xfrm>
            <a:off x="61995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8"/>
          <p:cNvSpPr/>
          <p:nvPr/>
        </p:nvSpPr>
        <p:spPr>
          <a:xfrm>
            <a:off x="70380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9"/>
          <p:cNvSpPr/>
          <p:nvPr/>
        </p:nvSpPr>
        <p:spPr>
          <a:xfrm>
            <a:off x="79329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0"/>
          <p:cNvSpPr/>
          <p:nvPr/>
        </p:nvSpPr>
        <p:spPr>
          <a:xfrm>
            <a:off x="12632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1"/>
          <p:cNvSpPr/>
          <p:nvPr/>
        </p:nvSpPr>
        <p:spPr>
          <a:xfrm>
            <a:off x="6143760" y="261144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2"/>
          <p:cNvSpPr/>
          <p:nvPr/>
        </p:nvSpPr>
        <p:spPr>
          <a:xfrm>
            <a:off x="7286760" y="26049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3"/>
          <p:cNvSpPr/>
          <p:nvPr/>
        </p:nvSpPr>
        <p:spPr>
          <a:xfrm>
            <a:off x="8104320" y="25923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4"/>
          <p:cNvSpPr/>
          <p:nvPr/>
        </p:nvSpPr>
        <p:spPr>
          <a:xfrm>
            <a:off x="126072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5"/>
          <p:cNvSpPr/>
          <p:nvPr/>
        </p:nvSpPr>
        <p:spPr>
          <a:xfrm>
            <a:off x="1247400" y="3633840"/>
            <a:ext cx="2845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6"/>
          <p:cNvSpPr/>
          <p:nvPr/>
        </p:nvSpPr>
        <p:spPr>
          <a:xfrm>
            <a:off x="1245600" y="4167360"/>
            <a:ext cx="3024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7"/>
          <p:cNvSpPr/>
          <p:nvPr/>
        </p:nvSpPr>
        <p:spPr>
          <a:xfrm>
            <a:off x="5203800" y="363996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8"/>
          <p:cNvSpPr/>
          <p:nvPr/>
        </p:nvSpPr>
        <p:spPr>
          <a:xfrm>
            <a:off x="1251000" y="4643280"/>
            <a:ext cx="36291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9"/>
          <p:cNvSpPr/>
          <p:nvPr/>
        </p:nvSpPr>
        <p:spPr>
          <a:xfrm>
            <a:off x="1260720" y="5113440"/>
            <a:ext cx="2037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0"/>
          <p:cNvSpPr/>
          <p:nvPr/>
        </p:nvSpPr>
        <p:spPr>
          <a:xfrm>
            <a:off x="12628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1"/>
          <p:cNvSpPr/>
          <p:nvPr/>
        </p:nvSpPr>
        <p:spPr>
          <a:xfrm>
            <a:off x="5178600" y="56214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2"/>
          <p:cNvSpPr/>
          <p:nvPr/>
        </p:nvSpPr>
        <p:spPr>
          <a:xfrm>
            <a:off x="811080" y="50576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3"/>
          <p:cNvSpPr/>
          <p:nvPr/>
        </p:nvSpPr>
        <p:spPr>
          <a:xfrm>
            <a:off x="811080" y="4572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4"/>
          <p:cNvSpPr/>
          <p:nvPr/>
        </p:nvSpPr>
        <p:spPr>
          <a:xfrm>
            <a:off x="8164440" y="5110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5"/>
          <p:cNvSpPr/>
          <p:nvPr/>
        </p:nvSpPr>
        <p:spPr>
          <a:xfrm>
            <a:off x="6200280" y="3164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…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6"/>
          <p:cNvSpPr/>
          <p:nvPr/>
        </p:nvSpPr>
        <p:spPr>
          <a:xfrm>
            <a:off x="7429680" y="3164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7"/>
          <p:cNvSpPr/>
          <p:nvPr/>
        </p:nvSpPr>
        <p:spPr>
          <a:xfrm>
            <a:off x="8286840" y="3149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8"/>
          <p:cNvSpPr/>
          <p:nvPr/>
        </p:nvSpPr>
        <p:spPr>
          <a:xfrm>
            <a:off x="876240" y="56055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04680" y="8395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ying Program Correct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9172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ctness verification methods treat programs as mathematical theor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methods are particularly useful during design and design 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program verification often involves sophisticated reasoning, it is important to check your work carefu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8704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ness Verific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verify a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ll of the program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each verification question while reviewing each non-trivial constr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he answer is not obvious, use a trace table to evaluate the conditions that the program must satisf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is verification approach works with most design constructs, only “while loops” are described in this le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ofs for repeat-until and for-loops are described in the textbook (pages 271 - 27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936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Verification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891720" y="1641240"/>
            <a:ext cx="7410600" cy="603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hileLoop is assumed to have the following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s34"/>
          <p:cNvPicPr/>
          <p:nvPr/>
        </p:nvPicPr>
        <p:blipFill>
          <a:blip r:embed="rId1"/>
          <a:stretch/>
        </p:blipFill>
        <p:spPr>
          <a:xfrm>
            <a:off x="1057320" y="2390760"/>
            <a:ext cx="371160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3240" y="844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Verifica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14400" y="1650960"/>
            <a:ext cx="7099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hile-loop is correct if all of the following questions can be answered with “ye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1: Is loop termination guaranteed for any argument of WhileT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2: When WhileTest is true, does WhileLoop = LoopPart followed by WhileLoo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3: When WhileTest is false, does WhileLoop = ident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0468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Example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915480" y="1642680"/>
            <a:ext cx="7410600" cy="531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ing n &gt; 0, calculate 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5" descr="s36"/>
          <p:cNvPicPr/>
          <p:nvPr/>
        </p:nvPicPr>
        <p:blipFill>
          <a:blip r:embed="rId1"/>
          <a:stretch/>
        </p:blipFill>
        <p:spPr>
          <a:xfrm>
            <a:off x="1533600" y="2411280"/>
            <a:ext cx="362736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03240" y="84276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07560" y="1647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1: Is loop termination guaranteed for any argument of WhileT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, the loop terminates whe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n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Sinc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eps inside the loop, it will terminate as long a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&gt;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2: When WhileTest is true, is WhileLoop = LoopPart followed by WhileLoo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, the LoopPart increment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set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qual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* i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till equal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The initial conditions ensure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= i!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iti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01440" y="844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99640" y="16444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3: When WhileTest is false, does WhileLoop = ident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, when WhileTest is false, the loop terminates without further changes to any variables, s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= i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, we can deduce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= n!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06200" y="8996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WhileLoop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09440" y="1733040"/>
            <a:ext cx="74134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valu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an arra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[0 .. n-1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is sorted in ascending order, verify that the following binary search algorithm finds the smallest index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[i]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s39"/>
          <p:cNvPicPr/>
          <p:nvPr/>
        </p:nvPicPr>
        <p:blipFill>
          <a:blip r:embed="rId1"/>
          <a:stretch/>
        </p:blipFill>
        <p:spPr>
          <a:xfrm>
            <a:off x="1293840" y="3038400"/>
            <a:ext cx="35431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Design Verifica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9964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mprove design-review yield, you must use disciplined verificatio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rderly approach to design verification is essential 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common design defects are caused by overlooked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uations that seem unlikely become more likely with complex systems and high-powered comput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were initially impossible may be likely after a program is mod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WhileLoop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-360" y="1550880"/>
            <a:ext cx="7413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pecification is in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hould happen 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= 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mpty array)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hould happen 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&gt; a[n-1]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an formalize the specification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1008000" y="5057640"/>
            <a:ext cx="74138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&gt; a[n-1]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the desired result i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= 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the desired result i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3" descr="s40"/>
          <p:cNvPicPr/>
          <p:nvPr/>
        </p:nvPicPr>
        <p:blipFill>
          <a:blip r:embed="rId1"/>
          <a:stretch/>
        </p:blipFill>
        <p:spPr>
          <a:xfrm>
            <a:off x="1022400" y="3060720"/>
            <a:ext cx="79437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6200" y="9093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WhileLoop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017360" y="16984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use case checking, we should consider cases wh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qual to the first element of the arr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qual to any intermediate element of the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qual to the final element of the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ot equal to any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we look 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ot equal to any el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the arra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&lt;2, 3, 5, 7&gt;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4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6840" y="9093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hileLoop Tra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14"/>
          <p:cNvGraphicFramePr/>
          <p:nvPr/>
        </p:nvGraphicFramePr>
        <p:xfrm>
          <a:off x="1719360" y="1486080"/>
          <a:ext cx="5684760" cy="41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9360" y="1486080"/>
                    <a:ext cx="568476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15920" y="9093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cation 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00080" y="1695240"/>
            <a:ext cx="73994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fails to terminate for this set of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ce table will reveal design defects, but it does not suggest how to fix th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correction is to replac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k +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is change, the next step would be to answer the three WhileLoop questions, with a trace table if necess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6480" y="909360"/>
            <a:ext cx="7635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s: Program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02960" y="1711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done correctly, these verification methods can guarantee program correctn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y of these verification methods requires skill and prac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op termination test is critical because endless loops are hard to identify with other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you can often answer the verification questions by inspection, when in doubt, check the results with a trace 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81000" y="9028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and Verificatio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14120" y="171756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ical designs can be difficult to verify and often require special c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L diagrams can and should be checked for consisten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s of all classes, operations, and attributes should also be defined and used consist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L state charts can be verified as shown before, but the state and transition conditions must be explic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87120" y="8996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and Verifica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9828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ion in UML sequence diagrams can be traced if the diagrams are sufficiently det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ly, every message sent between objects must be supported by a traversable link defined in a class dia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UML tools can simulate execution of UML models, but these tools should be used only after other review techn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76240" y="83952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significantly improve your design-review yield by using disciplined design review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complex programs, the time spent verifying designs will be more than repaid by the testing time sa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 using verification techniques and then select the most effective ones for finding the defects that you most commonly find in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65080" y="830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Design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9640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following a structured design verification procedure, you are more likely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overlooked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rarely-exposed r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possible future expo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recording information during each design review, you can improve the effectiveness of later design inspe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254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Design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94960" y="1652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 methods should be used d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ying designs with source-code is time-consuming and error-p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esign verification methods to focus on the defect types that cause you the most trouble in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your data to decide which verification methods are most effective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90280" y="8254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0504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ymbolic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is represented symbol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behavior is examined analyt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 not always practical, symbolic execution can produce a comprehensive ver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pproach i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algebraic symbols to the program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ate the program as one or more equations using thes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the behavior of the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413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7912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questions to ask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program converge on a resul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program behave properly with both normal and abnormal input valu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program always produce the desired resul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190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78040" y="1654200"/>
            <a:ext cx="7410240" cy="504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the following program seg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44560" y="4235400"/>
            <a:ext cx="753912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be the result for various values of X and Y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is simple example merely illustrates how symbolic execution can reveal non-obvious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9"/>
          <p:cNvPicPr/>
          <p:nvPr/>
        </p:nvPicPr>
        <p:blipFill>
          <a:blip r:embed="rId1"/>
          <a:stretch/>
        </p:blipFill>
        <p:spPr>
          <a:xfrm>
            <a:off x="1725480" y="2293920"/>
            <a:ext cx="56390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08Z</dcterms:modified>
  <cp:revision>179</cp:revision>
  <dc:subject/>
  <dc:title>No Slide Title</dc:title>
</cp:coreProperties>
</file>